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7CE-8304-45E0-B95B-FF2EEBB1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265-6154-4644-AA56-0820574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72D-6042-474B-9474-EAE8E1E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215-B784-460C-85FC-A1D255B6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B59-30F0-4282-8CBA-FB17B7B0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2FE-E4CB-4E55-907A-10D297D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7811-D0D9-40AB-A1DF-483B2080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479-D559-44C1-8977-3575650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FE5-ED4B-409F-B345-549CC049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50D-CC1E-4C5F-82DF-E4244849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EF52-22E1-4476-A117-008AB9B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6B7-B332-4AE4-BBF4-A0366B7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C67-2ECC-4FE8-B332-565EE3AB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2F41-4296-47B6-A99B-A313DB5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C976-FB4C-4082-A6AE-DC1B722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A10E-ADB6-415B-B741-CD8A9479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AD7-EEC6-4492-9868-CA728BEB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3FE-F2F4-4290-9709-AA68308D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7A3-9899-4AAC-AD22-140D635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659-7CBC-4E8B-8CC8-5C26A1E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49F-8A9C-4B94-BAC5-52CC596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3C0-C548-413A-B98B-60B97519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06C-97D4-44D9-B2F5-9ACA2AD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572-8153-4764-AF98-1A7A8C1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265-C567-4A83-B9BB-5EA24998830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739-45D6-4107-8219-4EA75F3F2FD2}" type="slidenum">
              <a:rPr b="0" lang="ko-KR" sz="1400" spc="-1" strike="noStrike">
                <a:solidFill>
                  <a:srgbClr val="eaeae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  <a:ea typeface="굴림"/>
              </a:rPr>
              <a:t>Energy of Lod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About Lod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Łódź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 is the third-largest city in Poland. Located in the central part of the country, it had a population of 753,192 in 2007. It is the capital of Łódź Voivodeship, and is approximately 135 kilometres (84 mi) south-west of Warsaw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Wi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When we use wind. it cost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1.8mv=2100zt~77000z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when ra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re are strong wind, so it m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Very wel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it can be nois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Because of wind sou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Picture 4" descr="바람"/>
          <p:cNvPicPr/>
          <p:nvPr/>
        </p:nvPicPr>
        <p:blipFill>
          <a:blip r:embed="rId1"/>
          <a:stretch/>
        </p:blipFill>
        <p:spPr>
          <a:xfrm>
            <a:off x="3492360" y="5300640"/>
            <a:ext cx="2646360" cy="131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ukkllio l"/>
          <p:cNvPicPr/>
          <p:nvPr/>
        </p:nvPicPr>
        <p:blipFill>
          <a:blip r:embed="rId2"/>
          <a:stretch/>
        </p:blipFill>
        <p:spPr>
          <a:xfrm>
            <a:off x="6300720" y="4941720"/>
            <a:ext cx="1297080" cy="16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Sol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we use solar, cost about in 10m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245zt~2800000zt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we can spare electricit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when it’s flood, there are no sun, so we can use su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Picture 4" descr="duf"/>
          <p:cNvPicPr/>
          <p:nvPr/>
        </p:nvPicPr>
        <p:blipFill>
          <a:blip r:embed="rId1"/>
          <a:stretch/>
        </p:blipFill>
        <p:spPr>
          <a:xfrm>
            <a:off x="2195640" y="4581360"/>
            <a:ext cx="2692440" cy="204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kj'uopuuggufiko"/>
          <p:cNvPicPr/>
          <p:nvPr/>
        </p:nvPicPr>
        <p:blipFill>
          <a:blip r:embed="rId2"/>
          <a:stretch/>
        </p:blipFill>
        <p:spPr>
          <a:xfrm>
            <a:off x="5148360" y="4581360"/>
            <a:ext cx="30859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C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When we use coal it cost about 2275000zt on 500Mv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Poland one of the volunteer is coal. so we can use it very usuall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 the sound will be very noisy, and it’s dangero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The rea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reason of I choose the wind is  in the Poland, most of season is winter. In winter are cold and lot of wind, so I choose the wind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reason of  I choose solar is in a week there are lot of sun, so we can save the solar, and we can use what we sa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The cho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I will choice the wind, because every day we have a wind. But! Maybe it could be very noisy, so we can construction in small country which is no perso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watc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0:39:59Z</dcterms:created>
  <dc:creator>sk1005</dc:creator>
  <dc:description/>
  <cp:keywords/>
  <dc:language>en-US</dc:language>
  <cp:lastModifiedBy>sk1005</cp:lastModifiedBy>
  <dcterms:modified xsi:type="dcterms:W3CDTF">2009-03-26T00:34:12Z</dcterms:modified>
  <cp:revision>9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2</vt:lpwstr>
  </property>
</Properties>
</file>